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B02-A2DE-489E-9E67-4EDA1196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438-3508-46A8-A1E1-EBCDB131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6C5-45DD-45EC-9139-2B8B528E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A19-FE90-4474-82C8-BD7BE62F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770-8853-4DCD-AF89-6C981EDA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BBD-8F10-42B7-850E-9EAAD04B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559-37E2-4EFA-837D-34DDDE87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333-ED7D-4901-9E61-89812537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38C-92BA-4C8A-BDDC-1FF934C2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C6F-CAAB-417F-9701-CD7A05A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266-54B0-44E0-95F3-5474A3BE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EB0-7F8B-4F37-9737-1C4F62A1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7BAD-37B0-4E5F-8A3A-766A2149F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421000"/>
            <a:ext cx="7129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名称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类别：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□国家级          □自治区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组成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指导教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所在单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研究起止时间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    年  月  日至    年  月  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答辩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月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项目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项目研究内容及研究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请附以必要的数据、表格、图片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研究成果或研究结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请附以必要的数据、表格、图片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收获、存在问题及经验教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成果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7:47Z</dcterms:created>
  <dc:creator>微软用户</dc:creator>
  <dc:description/>
  <dc:language>en-US</dc:language>
  <cp:lastModifiedBy>微软用户</cp:lastModifiedBy>
  <dcterms:modified xsi:type="dcterms:W3CDTF">2013-04-19T09:41:33Z</dcterms:modified>
  <cp:revision>26</cp:revision>
  <dc:subject/>
  <dc:title>幻灯片 1</dc:title>
</cp:coreProperties>
</file>