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DF3-6C0E-46FB-8CD5-BD7833A1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AC7-5DDF-4E45-BBBF-BD919D7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F18-60FE-4C0D-B0C9-C6030EE2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691-5D5B-4814-AD22-B0D9D079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B97-5A70-4BDA-A0DF-1E63DC2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55C-6558-48AA-80E5-340E677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216-016A-4456-9930-2871EBC6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425-EAF7-4BEA-9876-C22CD9A4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27C-966E-407E-973F-9BF0A788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A4A-0575-4436-9246-3F172D4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54F-B41D-4CDD-B362-20AA31D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A55-E366-49A8-A515-D0CA083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E745-C934-4AD8-BE94-EBD233AA3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2421000"/>
            <a:ext cx="7129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名称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□国家级      □自治区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组成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指导教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项目所在单位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研究起止时间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    年  月  日至    年  月  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答辩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年  月  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项目简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300-5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创业计划具体内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主体可展开，文字尽量精炼。可附加具体图表、数据进行辅助说明。可加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划摘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介绍（或事业描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（服务）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员及组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市场预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营销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财务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险与风险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长与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8:57:47Z</dcterms:created>
  <dc:creator>微软用户</dc:creator>
  <dc:description/>
  <dc:language>en-US</dc:language>
  <cp:lastModifiedBy>微软用户</cp:lastModifiedBy>
  <dcterms:modified xsi:type="dcterms:W3CDTF">2013-04-22T00:49:35Z</dcterms:modified>
  <cp:revision>38</cp:revision>
  <dc:subject/>
  <dc:title>幻灯片 1</dc:title>
</cp:coreProperties>
</file>