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1A8-8152-49D8-BE6E-C88FB319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D14-6DEF-47F0-8694-A5F2CB8C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BD2-E8E9-40C0-91FE-26F339ED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907-8F7B-4E06-A21D-F35DEAA8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265-5AD1-4742-9104-3436C67A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197-2A78-405F-A489-274B674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4A4-9681-4946-A169-DE98264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8EB-F2C2-4958-9C2C-925D865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52C-4D95-4C8E-A24E-1B27141E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D3D-9B9C-4921-BBF7-802F44F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FF9-EF3A-4BDB-A8F3-3E84CF6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782-0481-4E50-BE2C-942B065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89B2-EEDF-4781-A3A1-FF7053BEA6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创业实践情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须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地点（具体地址、场地图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创业实践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过程记录（具体时间、地点、图片及活动内容简要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费使用情况说明（附详细开支清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投入与收益情况（附具体图表说明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在问题及改进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china</cp:lastModifiedBy>
  <dcterms:modified xsi:type="dcterms:W3CDTF">2014-12-10T02:27:08Z</dcterms:modified>
  <cp:revision>44</cp:revision>
  <dc:subject/>
  <dc:title>幻灯片 1</dc:title>
</cp:coreProperties>
</file>