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E1A-E0FD-4DB2-846E-15FB2493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E8C-6695-4571-B58C-B45B966B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883-DC2E-4458-8E64-BF32B4F7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C3B-617C-4798-A81F-53EBE07E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88D-1BD7-4701-942E-1E7A2FB9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39E-220C-4A1E-9EA8-DD896D4A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953-5E54-4741-A496-1B083334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B96-D6E8-408E-81FA-29D05FCA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72F-2B40-4AF7-B524-982EA51A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A00-8CA0-4080-93D2-B79C411A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FF2-C1D7-4E23-99CC-B4F99B7F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CBE-88CC-4DFD-84F1-FEAE1DF5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59B2-A588-4C16-94FA-15C124DCED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2421000"/>
            <a:ext cx="7129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名称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类别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□国家级      □自治区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负责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组成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指导教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所在单位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研究起止时间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    年  月  日至    年  月  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答辩时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  月  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项目简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00-5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创业计划具体内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主体可展开，文字尽量精炼。可附加具体图表、数据进行辅助说明。可加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计划摘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业介绍（或事业描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业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产品（服务）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员及组织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市场预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营销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财务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风险与风险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长与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8:57:47Z</dcterms:created>
  <dc:creator>微软用户</dc:creator>
  <dc:description/>
  <dc:language>en-US</dc:language>
  <cp:lastModifiedBy>微软用户</cp:lastModifiedBy>
  <dcterms:modified xsi:type="dcterms:W3CDTF">2013-04-22T00:49:35Z</dcterms:modified>
  <cp:revision>38</cp:revision>
  <dc:subject/>
  <dc:title>幻灯片 1</dc:title>
</cp:coreProperties>
</file>