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8171-1CC0-428C-BC30-AF6EB889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CFD2-DFC4-4946-8FCA-D915611D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827-8888-45A0-9B4D-C8865A79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280A-9666-4A3F-B393-BA2FEBEC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1AAB-22D7-47A1-B0D2-3F0C1050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08CB-9043-4688-929D-91CBC9DD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41F-D273-4DD6-BC8B-0F1DB688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DC5-3663-41DA-A5D2-670B00D2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C20-29D1-4C0F-935B-B2A7D23F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4FE-A6F3-45FC-BE00-A69F936B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41F-8E0F-4366-83AC-A4E39BDF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122-E93E-412E-8A43-3D79C3F1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5E23-4825-49E7-9785-858CD283F8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2421000"/>
            <a:ext cx="7129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名称：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类别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□国家级      □自治区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负责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组成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指导教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所在单位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研究起止时间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：    年  月  日至    年  月  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答辩时间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年  月  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项目简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00-5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字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创业计划具体内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主体可展开，文字尽量精炼。可附加具体图表、数据进行辅助说明。可加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计划摘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企业介绍（或事业描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行业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产品（服务）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员及组织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市场预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营销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财务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风险与风险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长与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227628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创业实践情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主体可展开，文字尽量精炼。须附加具体图表、数据进行辅助说明。可加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创业实践地点（具体地址、场地图片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创业实践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施过程记录（具体时间、地点、图片及活动内容简要说明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经费使用情况说明（附详细开支清单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投入与收益情况（附具体图表说明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施效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在问题及改进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8:57:47Z</dcterms:created>
  <dc:creator>微软用户</dc:creator>
  <dc:description/>
  <dc:language>en-US</dc:language>
  <cp:lastModifiedBy>china</cp:lastModifiedBy>
  <dcterms:modified xsi:type="dcterms:W3CDTF">2014-12-10T02:27:08Z</dcterms:modified>
  <cp:revision>44</cp:revision>
  <dc:subject/>
  <dc:title>幻灯片 1</dc:title>
</cp:coreProperties>
</file>