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FA7-E077-42AB-9083-482FE25B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408-F8CF-4B72-BCEE-4EAC15B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F31-0C70-48C4-BC16-2621D9C3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AB8-F56C-4B0F-B5A1-1CAA8FCA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BB2-CC05-42DB-9F00-5F91459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001-72D4-47DE-BCC3-CDFF4D09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024-9FC6-476C-A5F1-DD1890CA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8F2-4669-4928-84BA-FF44AE7E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BD6-55ED-4AB0-A6CC-B2CC1AF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DAD-DEF8-40A7-82F4-AE160D4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218-7AD6-494A-A1A6-A13750F4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8B3-41F2-4145-B1C4-50FE79A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0417-F531-46E4-8C93-C109F473DC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项目研究内容及研究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请附以必要的数据、表格、图片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研究成果或研究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请附以必要的数据、表格、图片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收获、存在问题及经验教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成果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微软用户</cp:lastModifiedBy>
  <dcterms:modified xsi:type="dcterms:W3CDTF">2013-04-19T09:41:33Z</dcterms:modified>
  <cp:revision>26</cp:revision>
  <dc:subject/>
  <dc:title>幻灯片 1</dc:title>
</cp:coreProperties>
</file>